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130-4095-4CF2-93AD-91F1C46F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B68-24A5-449E-BFAF-8A31E77B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422-0946-4849-BA29-3304A2FC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C81-2A1C-4E4C-B2CB-0608A67A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CBA-421D-4658-8968-B6CDC62E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0D3-358B-461E-8532-1C3E3128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5FC-A2B8-477B-A6D9-8B4AE01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CEC-1445-4156-BAAF-BC38C27C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5F2-666E-4EA9-801B-DD781B32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726-EEC8-436F-8E77-8599175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497-204A-4457-9E05-31AA8E6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2E6-9026-46BD-BA6D-D757D35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EC8-1862-4945-ABDA-F41DC089AA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0080"/>
            <a:ext cx="9144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لإخوةِ السّلامُ والمحبَّةُ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إيمان مِنَ اللهِ الآب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ربِ يسوع المسيحْ.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فليَكُن إلهُ السّلام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معكم أجمعين. آمين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29:03Z</dcterms:created>
  <dc:creator>Charbel Azar</dc:creator>
  <dc:description/>
  <dc:language>en-US</dc:language>
  <cp:lastModifiedBy>-</cp:lastModifiedBy>
  <dcterms:modified xsi:type="dcterms:W3CDTF">2003-04-18T11:49:51Z</dcterms:modified>
  <cp:revision>4</cp:revision>
  <dc:subject/>
  <dc:title>للإخوةِ السّلامُ والمحبَّةُ والإيمان مِنَ اللهِ الآبِ والربِ يسوعَ المسيحْ. فليَكُن إلهُ السّلامِ معكم أجمعين. آمين.</dc:title>
</cp:coreProperties>
</file>